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gif" ContentType="image/gif"/>
  <Override PartName="/ppt/media/image22.wmf" ContentType="image/x-wmf"/>
  <Override PartName="/ppt/media/image13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image11.wmf" ContentType="image/x-wmf"/>
  <Override PartName="/ppt/media/image23.gif" ContentType="image/gif"/>
  <Override PartName="/ppt/media/image20.gif" ContentType="image/gif"/>
  <Override PartName="/ppt/media/image6.wmf" ContentType="image/x-wmf"/>
  <Override PartName="/ppt/media/image17.wmf" ContentType="image/x-wmf"/>
  <Override PartName="/ppt/media/image15.jpeg" ContentType="image/jpeg"/>
  <Override PartName="/ppt/media/image3.wmf" ContentType="image/x-wmf"/>
  <Override PartName="/ppt/media/image21.png" ContentType="image/png"/>
  <Override PartName="/ppt/media/image16.gif" ContentType="image/gif"/>
  <Override PartName="/ppt/media/image14.png" ContentType="image/png"/>
  <Override PartName="/ppt/media/image2.wmf" ContentType="image/x-wmf"/>
  <Override PartName="/ppt/media/image4.png" ContentType="image/png"/>
  <Override PartName="/ppt/media/image1.gif" ContentType="image/gif"/>
  <Override PartName="/ppt/media/image5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F3F-CEC4-44AC-ACBE-464EFA0D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BFC-480E-406B-82FC-80A8A440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57C-3102-4080-BC9C-92B16A7D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4AA-421D-4758-BF2F-572FBAD0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D22-0BD2-4362-934D-0B031EE6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9FFF-2873-40F6-B812-015326DA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8238-5BC1-4B9B-AA2C-48D7855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67D-B73F-4497-B6AB-FCD056B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4949-A2B3-478F-97EE-38A6F72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B3E7-442A-4A69-A069-CC764AC1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1ED-766E-4D04-95F5-FDF38CC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29F-A466-45E2-9392-628D3CF1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7AE-D446-42BB-A159-19BCC17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36B-E10B-41A1-BFF2-8CD7B15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D272-A7EA-46EE-BC3A-3373F968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7D9F-86E6-4819-8B9C-AE30BD68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7F95-6AD7-45F2-9321-02D28B11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280-6D2C-4EA8-9487-815962C5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06A-486C-493D-BEBB-B987D31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3B4-F1AD-48EA-986A-A90F169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02D-9D55-4E68-881B-C55AB8A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725-21A7-479E-A290-ECDF4F1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2CD-5A95-4FE3-A1E9-5AEF54E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4DA-D29C-4A31-B23C-19A83D2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574E-FE63-45EA-A4AA-5D19ED81C6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7B5-CABD-4183-9DBE-059054BB52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14520" y="214200"/>
            <a:ext cx="447516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b0105c"/>
                </a:solidFill>
                <a:latin typeface="Monotype Corsiva"/>
              </a:rPr>
              <a:t>Выходцев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b0105c"/>
                </a:solidFill>
                <a:latin typeface="Monotype Corsiva"/>
              </a:rPr>
              <a:t>Ольга Николаевн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105c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105c"/>
                </a:solidFill>
                <a:latin typeface="Calibri"/>
              </a:rPr>
              <a:t>первой квалификационной категории</a:t>
            </a:r>
            <a:r>
              <a:rPr b="1" lang="ru-RU" sz="2400" spc="-1" strike="noStrike">
                <a:solidFill>
                  <a:srgbClr val="b0105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105c"/>
                </a:solidFill>
                <a:latin typeface="Calibri"/>
              </a:rPr>
              <a:t>МОУ «Основная общеобразовательная школа № 7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105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Оля школа\Анимация\Анимированные рисунки\Цветы, орнамент\Орнамент, оформление\fairyln.gif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95280" y="54936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чер  …ночи проби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члег Иван соб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доль … улице и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т картошку …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 поля дости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и … боки подп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 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кочкой … п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ком входит … бала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по – прежнему стоя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й …  … быва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рушка – горб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го вертелся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Слова для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У, к, вот, на, с, и, по, лишь, словно, но, в, и, н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042920" y="549360"/>
            <a:ext cx="7129440" cy="5472000"/>
          </a:xfrm>
          <a:prstGeom prst="cloudCallout">
            <a:avLst>
              <a:gd name="adj1" fmla="val 7379"/>
              <a:gd name="adj2" fmla="val -1953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Восстанови текст (по произведению Ершова «Конёк-Горбунок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O01063_"/>
          <p:cNvPicPr/>
          <p:nvPr/>
        </p:nvPicPr>
        <p:blipFill>
          <a:blip r:embed="rId1"/>
          <a:stretch/>
        </p:blipFill>
        <p:spPr>
          <a:xfrm>
            <a:off x="5796000" y="47628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ll Users\Документы\Мои рисунки\nature_7150_Zlaga_r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OEM\Рабочий стол\Анимированные рисунки\Природа, погода\image922.gif"/>
          <p:cNvPicPr/>
          <p:nvPr/>
        </p:nvPicPr>
        <p:blipFill>
          <a:blip r:embed="rId2"/>
          <a:stretch/>
        </p:blipFill>
        <p:spPr>
          <a:xfrm>
            <a:off x="0" y="1413000"/>
            <a:ext cx="7388280" cy="2911320"/>
          </a:xfrm>
          <a:prstGeom prst="rect">
            <a:avLst/>
          </a:prstGeom>
          <a:ln w="0">
            <a:noFill/>
          </a:ln>
        </p:spPr>
      </p:pic>
      <p:pic>
        <p:nvPicPr>
          <p:cNvPr id="147" name="Заголовок 1" descr=""/>
          <p:cNvPicPr/>
          <p:nvPr/>
        </p:nvPicPr>
        <p:blipFill>
          <a:blip r:embed="rId3"/>
          <a:stretch/>
        </p:blipFill>
        <p:spPr>
          <a:xfrm>
            <a:off x="347760" y="2852640"/>
            <a:ext cx="87962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солнце 21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250920" y="4968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179280" y="2492280"/>
            <a:ext cx="1944720" cy="1441440"/>
          </a:xfrm>
          <a:prstGeom prst="rect">
            <a:avLst/>
          </a:prstGeom>
          <a:solidFill>
            <a:srgbClr val="cccc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изме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2411280" y="2492280"/>
            <a:ext cx="2016360" cy="1441440"/>
          </a:xfrm>
          <a:prstGeom prst="rect">
            <a:avLst/>
          </a:prstGeom>
          <a:solidFill>
            <a:srgbClr val="cccc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лена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572000" y="2492280"/>
            <a:ext cx="2087640" cy="1441440"/>
          </a:xfrm>
          <a:prstGeom prst="rect">
            <a:avLst/>
          </a:prstGeom>
          <a:solidFill>
            <a:srgbClr val="cccc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употреб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ются без с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остоя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аст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6877080" y="2492280"/>
            <a:ext cx="2016000" cy="1441440"/>
          </a:xfrm>
          <a:prstGeom prst="rect">
            <a:avLst/>
          </a:prstGeom>
          <a:solidFill>
            <a:srgbClr val="cccc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1186920" y="907920"/>
            <a:ext cx="28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995640" y="90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3995640" y="90792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067280" y="836640"/>
            <a:ext cx="38894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hip2"/>
          <p:cNvPicPr/>
          <p:nvPr/>
        </p:nvPicPr>
        <p:blipFill>
          <a:blip r:embed="rId2"/>
          <a:stretch/>
        </p:blipFill>
        <p:spPr>
          <a:xfrm>
            <a:off x="500040" y="4786200"/>
            <a:ext cx="2214720" cy="83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ip2"/>
          <p:cNvPicPr/>
          <p:nvPr/>
        </p:nvPicPr>
        <p:blipFill>
          <a:blip r:embed="rId3"/>
          <a:stretch/>
        </p:blipFill>
        <p:spPr>
          <a:xfrm flipH="1">
            <a:off x="5143320" y="5143680"/>
            <a:ext cx="2144520" cy="785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6856560" y="2708280"/>
            <a:ext cx="20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ют грамматическ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ED00019_"/>
          <p:cNvPicPr/>
          <p:nvPr/>
        </p:nvPicPr>
        <p:blipFill>
          <a:blip r:embed="rId1"/>
          <a:stretch/>
        </p:blipFill>
        <p:spPr>
          <a:xfrm>
            <a:off x="0" y="1557360"/>
            <a:ext cx="3419640" cy="3719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780000" y="1125360"/>
            <a:ext cx="511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самостоятель-ные части речи вам известны? Почему они так называют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95280" y="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ав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31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47840" y="836640"/>
            <a:ext cx="83008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5072040" y="2000160"/>
            <a:ext cx="865080" cy="3301920"/>
          </a:xfrm>
          <a:custGeom>
            <a:avLst/>
            <a:gdLst>
              <a:gd name="textAreaLeft" fmla="*/ 0 w 865080"/>
              <a:gd name="textAreaRight" fmla="*/ 312480 w 865080"/>
              <a:gd name="textAreaTop" fmla="*/ 127440 h 3301920"/>
              <a:gd name="textAreaBottom" fmla="*/ 3174480 h 33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5"/>
                  <a:pt x="10800" y="2669"/>
                </a:cubicBezTo>
                <a:lnTo>
                  <a:pt x="10800" y="8131"/>
                </a:lnTo>
                <a:cubicBezTo>
                  <a:pt x="10800" y="9466"/>
                  <a:pt x="16200" y="10800"/>
                  <a:pt x="21600" y="10800"/>
                </a:cubicBezTo>
                <a:cubicBezTo>
                  <a:pt x="16200" y="10800"/>
                  <a:pt x="10800" y="12135"/>
                  <a:pt x="10800" y="13469"/>
                </a:cubicBezTo>
                <a:lnTo>
                  <a:pt x="10800" y="18931"/>
                </a:lnTo>
                <a:cubicBezTo>
                  <a:pt x="10800" y="2026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6000" y="2143080"/>
            <a:ext cx="334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се они являются членами предложе -  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428840" y="28584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еизменяемые имена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00080" y="1785960"/>
            <a:ext cx="7500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бри, кенгуру, шос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аминго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о, кофе, дом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оэ, радио, к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си, метро, купе, паль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не, кафе, трюмо, ман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акаду, драже, па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интервью, рагу, жю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ианино, и фойе, пю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ро и ателье – ты все слова запомин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икогда их не склон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Y00170_"/>
          <p:cNvPicPr/>
          <p:nvPr/>
        </p:nvPicPr>
        <p:blipFill>
          <a:blip r:embed="rId1"/>
          <a:stretch/>
        </p:blipFill>
        <p:spPr>
          <a:xfrm>
            <a:off x="1957320" y="2371680"/>
            <a:ext cx="1038240" cy="64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0040" cy="64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Y00170_"/>
          <p:cNvPicPr/>
          <p:nvPr/>
        </p:nvPicPr>
        <p:blipFill>
          <a:blip r:embed="rId3"/>
          <a:stretch/>
        </p:blipFill>
        <p:spPr>
          <a:xfrm>
            <a:off x="1957320" y="4713120"/>
            <a:ext cx="1038240" cy="6429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9" descr="SO00289_"/>
          <p:cNvPicPr/>
          <p:nvPr/>
        </p:nvPicPr>
        <p:blipFill>
          <a:blip r:embed="rId4"/>
          <a:stretch/>
        </p:blipFill>
        <p:spPr>
          <a:xfrm>
            <a:off x="3635280" y="4508640"/>
            <a:ext cx="1408320" cy="2187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1"/>
          <p:cNvSpPr/>
          <p:nvPr/>
        </p:nvSpPr>
        <p:spPr>
          <a:xfrm>
            <a:off x="395280" y="568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Если не приложить руки к земле, она не станет золот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519120" y="3881520"/>
            <a:ext cx="290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ыполните синтаксический разбор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5992920" y="3808440"/>
            <a:ext cx="29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йдите служебные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8"/>
          <p:cNvSpPr/>
          <p:nvPr/>
        </p:nvSpPr>
        <p:spPr>
          <a:xfrm>
            <a:off x="61128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24000" y="1052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 конце какого предлога стоит сот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ой предлог является но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ие два предлога укажут на количество лекарства на один пр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 какому предлогу нужно прибавить загородный дом, чтобы получить то, что требует реш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17430"/>
          <p:cNvPicPr/>
          <p:nvPr/>
        </p:nvPicPr>
        <p:blipFill>
          <a:blip r:embed="rId1"/>
          <a:stretch/>
        </p:blipFill>
        <p:spPr>
          <a:xfrm>
            <a:off x="7380360" y="3573360"/>
            <a:ext cx="176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057 P.Mauriat_Love is blue.mp3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-612720" y="47628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рошую  речь хорошо  и  слуш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WordArt 5"/>
          <p:cNvSpPr txBox="1"/>
          <p:nvPr/>
        </p:nvSpPr>
        <p:spPr>
          <a:xfrm rot="21310200">
            <a:off x="6443640" y="2421000"/>
            <a:ext cx="237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928000"/>
                </a:gradFill>
                <a:latin typeface="Impact"/>
              </a:rPr>
              <a:t>русская пословиц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928000"/>
              </a:gradFill>
              <a:latin typeface="Impact"/>
              <a:ea typeface="Impact"/>
            </a:endParaRPr>
          </a:p>
        </p:txBody>
      </p:sp>
      <p:pic>
        <p:nvPicPr>
          <p:cNvPr id="188" name="Picture 6" descr="MCj03608300000[1]"/>
          <p:cNvPicPr/>
          <p:nvPr/>
        </p:nvPicPr>
        <p:blipFill>
          <a:blip r:embed="rId2"/>
          <a:stretch/>
        </p:blipFill>
        <p:spPr>
          <a:xfrm>
            <a:off x="3635280" y="2708280"/>
            <a:ext cx="222408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5491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380880" y="990720"/>
            <a:ext cx="8077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 за  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0" name="Picture 4" descr="69"/>
          <p:cNvPicPr/>
          <p:nvPr/>
        </p:nvPicPr>
        <p:blipFill>
          <a:blip r:embed="rId1"/>
          <a:stretch/>
        </p:blipFill>
        <p:spPr>
          <a:xfrm>
            <a:off x="5715000" y="403848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J0199609"/>
          <p:cNvPicPr/>
          <p:nvPr/>
        </p:nvPicPr>
        <p:blipFill>
          <a:blip r:embed="rId1"/>
          <a:stretch/>
        </p:blipFill>
        <p:spPr>
          <a:xfrm>
            <a:off x="1643040" y="4214880"/>
            <a:ext cx="2357640" cy="201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J0200279"/>
          <p:cNvPicPr/>
          <p:nvPr/>
        </p:nvPicPr>
        <p:blipFill>
          <a:blip r:embed="rId2"/>
          <a:stretch/>
        </p:blipFill>
        <p:spPr>
          <a:xfrm>
            <a:off x="6429240" y="257184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13" descr=""/>
          <p:cNvPicPr/>
          <p:nvPr/>
        </p:nvPicPr>
        <p:blipFill>
          <a:blip r:embed="rId3"/>
          <a:stretch/>
        </p:blipFill>
        <p:spPr>
          <a:xfrm>
            <a:off x="633240" y="469800"/>
            <a:ext cx="790740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) Научить детей находить 3 группы служеб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) Доказать значимость служеб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) Развивать умение самостоятельно добывать зн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ботать с имеющейся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) Воспитывать внимательность и актив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емление к откры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) Совершенствовать устную и письмен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3348000" y="54936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Цели урока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Picture 10" descr="J0200273"/>
          <p:cNvPicPr/>
          <p:nvPr/>
        </p:nvPicPr>
        <p:blipFill>
          <a:blip r:embed="rId1"/>
          <a:stretch/>
        </p:blipFill>
        <p:spPr>
          <a:xfrm>
            <a:off x="1187280" y="260280"/>
            <a:ext cx="18162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Предлоги, союзы, частиц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 встали в один хоров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лужебные важные лиц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а редкость серьезны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Без них обойтись невозмо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И знают об этом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гда и во всем осторо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игде не гуляют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о исподволь и незам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начение свое привнес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десь свяжут, а рядом разде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Укажут и силу д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5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9280" y="1000080"/>
            <a:ext cx="896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 словами всег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ружен, форму их показывает – в предложенье связ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G00030_"/>
          <p:cNvPicPr/>
          <p:nvPr/>
        </p:nvPicPr>
        <p:blipFill>
          <a:blip r:embed="rId1"/>
          <a:stretch/>
        </p:blipFill>
        <p:spPr>
          <a:xfrm>
            <a:off x="7358040" y="1643040"/>
            <a:ext cx="1979640" cy="3384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3357720" y="535788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19120" y="657360"/>
            <a:ext cx="794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AG00317_"/>
          <p:cNvPicPr/>
          <p:nvPr/>
        </p:nvPicPr>
        <p:blipFill>
          <a:blip r:embed="rId1"/>
          <a:stretch/>
        </p:blipFill>
        <p:spPr>
          <a:xfrm>
            <a:off x="6910560" y="0"/>
            <a:ext cx="2233440" cy="3959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3429000" y="55720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ю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anm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оттенки придавать значень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усилить их без напряж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помочь я форм образован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 Глагол на службу призов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вообще подвергнуть отриц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ё то, что кто-нибудь произнес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929040" y="5786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аст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642960" y="500040"/>
            <a:ext cx="792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 каждой частицы сво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  - мечт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 – сомне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 – утверж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жанни Род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ы реки стремились обрат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 касторку пить было прият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ы шили штаны из тум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 из крана бежала смет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 из рыбы варили варенье – было б весёлое настро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_980c_38665306_L"/>
          <p:cNvPicPr/>
          <p:nvPr/>
        </p:nvPicPr>
        <p:blipFill>
          <a:blip r:embed="rId1"/>
          <a:stretch/>
        </p:blipFill>
        <p:spPr>
          <a:xfrm>
            <a:off x="0" y="-1108080"/>
            <a:ext cx="18361080" cy="1383984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8"/>
          <p:cNvSpPr/>
          <p:nvPr/>
        </p:nvSpPr>
        <p:spPr>
          <a:xfrm>
            <a:off x="1176480" y="0"/>
            <a:ext cx="7967520" cy="6837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 rot="20333400">
            <a:off x="3718440" y="25999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4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 rot="20025600">
            <a:off x="3734280" y="529596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 flipV="1" rot="10239000">
            <a:off x="4916160" y="53762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66"/>
                </a:solidFill>
                <a:latin typeface="Arial"/>
              </a:rPr>
              <a:t>пред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 flipH="1" rot="16776600">
            <a:off x="6180840" y="4982760"/>
            <a:ext cx="7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 flipV="1" rot="11269200">
            <a:off x="4787640" y="126684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 rot="1755000">
            <a:off x="1931400" y="2916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мя 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 rot="19874400">
            <a:off x="1789560" y="23079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25"/>
          <p:cNvSpPr txBox="1"/>
          <p:nvPr/>
        </p:nvSpPr>
        <p:spPr>
          <a:xfrm>
            <a:off x="1979640" y="5891040"/>
            <a:ext cx="471492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fcb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лев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fcb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30"/>
          <p:cNvSpPr txBox="1"/>
          <p:nvPr/>
        </p:nvSpPr>
        <p:spPr>
          <a:xfrm rot="5400000">
            <a:off x="-2506680" y="3019320"/>
            <a:ext cx="6524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фолог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4500720" y="4287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06:08Z</dcterms:created>
  <dc:creator>1</dc:creator>
  <dc:description/>
  <dc:language>en-US</dc:language>
  <cp:lastModifiedBy>Андрей</cp:lastModifiedBy>
  <dcterms:modified xsi:type="dcterms:W3CDTF">2010-12-12T14:45:03Z</dcterms:modified>
  <cp:revision>24</cp:revision>
  <dc:subject/>
  <dc:title>Слайд 1</dc:title>
</cp:coreProperties>
</file>